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7BD-223A-42FB-8174-EBF83212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310-3451-49CE-A66C-00FDFBBB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636-EBAB-4C34-9585-EA2326CC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960-2EFC-4E0C-A849-2DBB75EB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C5E8-C44A-4CE7-8748-12CB5E5A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0AA0-17D3-43DF-BC28-5C58339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F470-D8B9-4D86-850C-1B0E8657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A5DD-7DEF-4827-B34D-390E7983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2731-177F-4257-BBF5-D8C9E55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9881-2EA2-4EED-A5CE-29811A6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F57A-CCC6-45C7-9353-E2E374F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A8F-6A2B-43CC-9FD9-BC555B3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9975-7662-4C7D-90B3-0296E66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2908-0F47-42EE-BA49-0F79DBBF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A804-7B7C-48D4-B36D-06657000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2E7A-039A-4F73-8FD1-01EF1CCE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C698-55B1-4AC2-A84C-B29DBE8B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B4EC-0E1D-455C-8A54-24A1856E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E857-DD91-47C1-AA7D-3798706D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C172-5762-44DC-B593-B2BB62F3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EDC2-0666-4582-8D4A-0C93E154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A6EF-3E24-4474-BB71-439769C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701-7B46-4240-9FC5-EE1D2BA2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F85E-5B8C-4360-91A1-4ECDD8CE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E82C-F473-41B1-9FA4-2D3A3FE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5557-E708-4F3B-BAFE-7BDC47E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9A35-0CB7-4A34-BC51-8F563CA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B59C-E81D-4783-9143-D50A221A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AFDD-86C3-4AA8-BEFB-98ECADDD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9B57-4B67-4B37-8352-2A379A8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454D-599C-4C41-AA31-80B1DF91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6024-FFAA-4B2B-8069-72FA7DCE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9390-D497-4863-8A2C-88A14E4F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ECD-2459-4BF2-8699-E74F097F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BFDD7-FA61-470B-B3AA-FFC466B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8F5B-7C5F-4106-B931-476817DD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5056-DF9E-4C38-ACA3-EB046F0B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BB80-AFC0-400F-B04C-D4795C8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2330-433C-448A-96C5-99326DC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A38F-0DAE-4970-9BBE-1D84D8D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631C5-D6C8-4570-A5DF-6817D23E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EE5D-C0F2-4924-9BFB-7EC2F321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EB25-D1DB-4DEA-B063-E1C54837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72E0-7A09-43BA-9476-7F0E418A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2ED-2D3D-495B-A76B-B6C96915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1657F-007D-4A0F-9850-F7E5838D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1DAF-DC54-45E3-AB83-9997F892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5A402-DEC8-455C-B368-113A472D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C7B4-A1F9-4785-8030-EBA1B787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2F233-A840-4267-8CF3-F02EEF6E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136A-3098-4FC0-8490-6041922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25B2-99E9-48A9-8CCC-FC9A176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C48C-3E50-434C-9C09-C10BC35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9F4C-8E64-401F-9324-FD24893E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3C12E-1D8F-4C14-923B-5F17D4D2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1DB-5A18-4B73-B94C-CBE83C00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8B24C-B396-4CC1-BBD5-ACEAD6B2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A2286-98E7-4D19-BF15-867D037A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892B-59A5-4EC5-AF8F-F8FC8D34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43C97-ADC7-4616-91F3-ACCF1BD9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EA15-981D-4BC3-99F4-6899EB02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7C86-4573-4A86-8DBD-41A2B2B2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5E019-10BE-4CD5-AFFE-647F04E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AA78-51C9-4715-80EC-F408EF39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2E2AB-DDE7-4282-B641-EB250E8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C8348-9F64-4BB5-BCF2-46B945ED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950-C94E-414C-933C-3F47F5E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FE844-F4FB-4B1B-A97C-F22DE311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21498-6CF2-4041-8372-4D8AABAE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806F-BB84-4179-89E9-D1E386EB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A04-AE6B-4B32-8368-F19CB297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183-6F7F-4174-8E63-5753643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435F-1791-4C87-9150-EA47E8BCCD5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B23-81EC-47A0-9CB0-F0416FC21ED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A9CE-1910-4369-8255-71EC1211858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F94A-F219-473D-B913-77DD19BEA47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8B50-756B-42F3-AA47-10B51A6CCFF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75F-54C9-4692-A66B-FE66E1D27EE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truthnews.us/images/nafta.jpg"/>
          <p:cNvPicPr/>
          <p:nvPr/>
        </p:nvPicPr>
        <p:blipFill>
          <a:blip r:embed="rId1"/>
          <a:stretch/>
        </p:blipFill>
        <p:spPr>
          <a:xfrm>
            <a:off x="2895480" y="1752480"/>
            <a:ext cx="6089760" cy="4419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5"/>
          <p:cNvSpPr/>
          <p:nvPr/>
        </p:nvSpPr>
        <p:spPr>
          <a:xfrm>
            <a:off x="0" y="1676520"/>
            <a:ext cx="2895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Prepare for Picnic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Graciously Share Businesses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Cover Up Conspiracy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fight For Business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Rectangl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3" descr=""/>
          <p:cNvPicPr/>
          <p:nvPr/>
        </p:nvPicPr>
        <p:blipFill>
          <a:blip r:embed="rId1"/>
          <a:stretch/>
        </p:blipFill>
        <p:spPr>
          <a:xfrm>
            <a:off x="-19080" y="30240"/>
            <a:ext cx="9150480" cy="712800"/>
          </a:xfrm>
          <a:prstGeom prst="rect">
            <a:avLst/>
          </a:prstGeom>
          <a:ln w="0">
            <a:noFill/>
          </a:ln>
        </p:spPr>
      </p:pic>
      <p:sp>
        <p:nvSpPr>
          <p:cNvPr id="273" name="Content Placeholder 2"/>
          <p:cNvSpPr/>
          <p:nvPr/>
        </p:nvSpPr>
        <p:spPr>
          <a:xfrm>
            <a:off x="-3240" y="7621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nalyze the picture.  Which title did you choose?  Why do you think this title is a perfect title for the picture? Explain and use details from the picture to help you.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9:19Z</dcterms:created>
  <dc:creator>e199300659</dc:creator>
  <dc:description/>
  <dc:language>en-US</dc:language>
  <cp:lastModifiedBy>M.  Echevarria</cp:lastModifiedBy>
  <cp:lastPrinted>2013-10-24T23:25:33Z</cp:lastPrinted>
  <dcterms:modified xsi:type="dcterms:W3CDTF">2014-01-05T20:51:37Z</dcterms:modified>
  <cp:revision>46</cp:revision>
  <dc:subject/>
  <dc:title>Slide 1</dc:title>
</cp:coreProperties>
</file>